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ct" ContentType="image/x-pict"/>
  <Override PartName="/ppt/media/image9.pct" ContentType="image/x-pict"/>
  <Override PartName="/ppt/media/image13.pct" ContentType="image/x-pict"/>
  <Override PartName="/ppt/media/image4.jpeg" ContentType="image/jpeg"/>
  <Override PartName="/ppt/media/image1.jpeg" ContentType="image/jpeg"/>
  <Override PartName="/ppt/media/image3.jpeg" ContentType="image/jpeg"/>
  <Override PartName="/ppt/media/image2.jpeg" ContentType="image/jpeg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D46A-8743-4DC0-BC8B-37FED606F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7EA4-A758-4E48-A148-479B5AB9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5BD2-AF09-4469-A050-021C7AF1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CA52-7EF4-45E1-956A-C254B035F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4E99-AADC-48F5-AB9D-365C51CD7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DC2D-2605-4FAF-812C-7DB95B46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C252-EBCE-4393-8F24-829523B3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ED9A-A58C-49AF-9E94-1375D2FF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4E7F-5BC5-46D2-99A7-E291E8DE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D16B-5E29-4F7F-A9EC-02B2A427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15E8-B06E-472D-9844-5041261D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4E66-5C36-44E1-822F-49AD0F07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09A8-45E4-418B-B64C-9B461660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BF90-69B4-4650-87ED-F1CCFFCA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6D9F-0C1A-4F0B-BFD0-1FF08799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77DB-6755-411E-9C2C-C119D4F57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ACFA-1203-42D9-BE3C-7A6C68B56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1BF4-2C89-4A76-963D-790C9857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AE33-E36B-481A-B53E-4056619C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9BD4-BB57-4C63-B091-23554222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D6DA-CC74-4F9E-A190-E16D6E95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7BC4-6293-4494-9EFD-A0907AA7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637C-4C5D-42F7-9E41-7E92B7DA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2C21-1409-4C2E-BC19-1A246311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1216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4BCA-93A7-4470-B425-F42416210165}" type="slidenum"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ED4C-40A3-493B-908B-933C21C38C9C}" type="slidenum">
              <a:rPr b="0" lang="en-US" sz="1400" spc="-1" strike="noStrike">
                <a:solidFill>
                  <a:srgbClr val="5d220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1216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Quiz on Inequalities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23520" y="335232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Quiz #2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Please number your paper from 1-10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2204"/>
                </a:solidFill>
                <a:latin typeface="Arial"/>
              </a:rPr>
              <a:t>Skip spaces as you go</a:t>
            </a: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olve and graph the following in equality.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9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307656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olve and graph the following inequality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10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05120" y="2743200"/>
            <a:ext cx="502920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Yes or No: Will the symbol change in this problem?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86000" y="2666880"/>
            <a:ext cx="448632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Yes or No: Will the symbol change in this problem?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2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276720" y="2514600"/>
            <a:ext cx="247968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ill the following problem be shaded left or right?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3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352680" y="2514600"/>
            <a:ext cx="206532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ill the following problem be shaded left or right?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4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14600" y="2895480"/>
            <a:ext cx="404172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olve the following inequality.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5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62320" y="3200400"/>
            <a:ext cx="494352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olve the following inequality.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6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971800" y="2438280"/>
            <a:ext cx="30481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olve and graph the following inequality.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7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90920" y="2895480"/>
            <a:ext cx="372420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olve and graph the following inequality.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8.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33720" y="2971800"/>
            <a:ext cx="4905360" cy="11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2:47:27Z</dcterms:created>
  <dc:creator>Christy Williams</dc:creator>
  <dc:description/>
  <dc:language>en-US</dc:language>
  <cp:lastModifiedBy>Parkland High School</cp:lastModifiedBy>
  <cp:lastPrinted>2010-10-27T13:47:18Z</cp:lastPrinted>
  <dcterms:modified xsi:type="dcterms:W3CDTF">2010-10-27T14:30:33Z</dcterms:modified>
  <cp:revision>3</cp:revision>
  <dc:subject/>
  <dc:title>Quiz on Inequalities</dc:title>
</cp:coreProperties>
</file>